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9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7EA2-9982-420C-8A0B-A80A4D23B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EBED-9E76-49BE-8E59-4D9389902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BBFD-BAF5-48D9-92BD-999D40AA4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64AC-F2EA-494A-80DD-1889D1F4E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2AAE-B73F-4824-AB07-7AF3FBCE6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8B21-83F5-4D8D-8A8A-E2DB4AD7C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EAD8-E4C8-4569-82AB-DAC37F5F9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9C4F-AD4E-4B66-B5BF-482B31750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4BC4-963A-4A48-A205-15241D3D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8F10-6F20-4174-A926-4447D8007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0AF1-405F-4EAF-8478-D08DB1A66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44BF-7A4D-4035-9C00-4F39DF41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B810-7AAE-4CED-B4D7-99CD295C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3896-5C79-49A4-AA03-C9027F10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75AD-2DF8-4E68-8CED-B4B5AF8C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BCBF-3D0E-485E-B796-819CD8A3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27F5-4767-4064-8260-FD6A3237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6779-D51C-44B3-9469-4C94DD05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2AF9-D7C8-47AC-9DD1-940ED802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7DD5-46F7-45A5-934A-9341953E6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31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32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2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3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"/><Relationship Id="rId100" Type="http://schemas.openxmlformats.org/officeDocument/2006/relationships/image" Target="../media/image4.png"/><Relationship Id="rId101" Type="http://schemas.openxmlformats.org/officeDocument/2006/relationships/slide" Target="slide10.xml"/><Relationship Id="rId102" Type="http://schemas.openxmlformats.org/officeDocument/2006/relationships/slideLayout" Target="../slideLayouts/slideLayout1.xml"/><Relationship Id="rId10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covalent bo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bond in which electrons are shared uneven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polar covalent bon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weakest of all bo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Hydrogen Bon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ything that has mass and takes up sp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Matt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substance containing two or more elements in a fixed rati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compon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371600" y="19810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y Substance that cannot be broken down to other substances by ordinary chemical me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l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smallest unit of an el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n Ato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tons, neutrons &amp; electr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the subatomic particles of an at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1447920" y="17524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bond with a partially charged hydrogen atom, caused by a polar covalent bo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26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027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hydrogen bon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028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295280" y="2057400"/>
            <a:ext cx="6324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tendency of molecules to stick together; is much stronger for water than most other liquid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Cohes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371600" y="19810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amount of energy associated with the movement of atoms and molecules in a body of mat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ith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Host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343400" y="83808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990720" y="4191120"/>
            <a:ext cx="7286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Mrs. Hayden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hea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rm used to describe a solution made with w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n aqueous solu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1295280" y="1981080"/>
            <a:ext cx="6324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measure of how difficult it is to stretch or break the surface of a liqui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Surface Tens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447920" y="17524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element that has the same number of protons and electrons but have different number of neutr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n isoto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umber of protons + Number of Neutr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n Atomic Mas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133720"/>
            <a:ext cx="1028520" cy="609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hemical Bo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to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990720"/>
            <a:ext cx="144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Elements, Atoms &amp; Molec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095880" y="12193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nn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8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  <p:sp>
        <p:nvSpPr>
          <p:cNvPr id="160" name="TextBox 105"/>
          <p:cNvSpPr/>
          <p:nvPr/>
        </p:nvSpPr>
        <p:spPr>
          <a:xfrm>
            <a:off x="612000" y="2286000"/>
            <a:ext cx="78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1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nergy Levels that house electr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electron shell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1447920" y="19810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bstances that resist changes in pH by accepting 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when it is in excel and donating 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when it deplete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buff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ain, Snow or fog with a pH level lower than 5.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cid precipita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process leading to changes in the composition of mat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chemical reac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Hydrogen Accep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ba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element that loses or gains and electr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asure of acid or basic solu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pH sca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measure of the intensity of the he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emperatu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ond in which the atoms share the electrons EQUALL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1371600" y="266688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non-pola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valent bon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Trace El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1371600" y="295596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trace element is associated with anemi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1371600" y="295596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r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n 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bond in which there is Electron sha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covalent bon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strongest bond 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Tracey Hayden</cp:lastModifiedBy>
  <dcterms:modified xsi:type="dcterms:W3CDTF">2009-08-29T23:26:37Z</dcterms:modified>
  <cp:revision>52</cp:revision>
  <dc:subject/>
  <dc:title>No Slide Title</dc:title>
</cp:coreProperties>
</file>